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1DF8A-AE15-4B22-A533-068273383E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9E799-8227-4F8F-92CD-F36289560F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92002-0904-4D84-A0B7-DF539E5D0F1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621FA-73A4-40C4-8DFE-7B7421F21D7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C100A-5B00-41BD-9AF0-539B684A9C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6B84D-57CC-4B22-ADFC-11BB86851A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AFD0B-79FF-4B5C-9087-7AD8A3FF9E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227E0-5C31-40FB-A5D0-D282FBC8A46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909B3-0292-4F85-9F65-4B689A207B0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57B89-533E-4A73-BBD1-7D460186D3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B9968-2CEF-4767-A913-62E594F6008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9B3A9-A923-4022-9E30-0FD6CE33821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F1D2-B5FA-4FF2-BA28-41BB0DECE2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C4B7A-A8B2-435D-A207-79EE2E68D36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EF282-B9C6-4313-BE52-A723FBFAD1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453-52AA-44CF-8524-3A833366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74D-DF56-43DA-8D33-BA8E1CF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082A8-7F90-4C3E-BB99-EC50EA92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B1C40-8050-4176-A69C-FEC04B6B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77881-56F5-46F7-8893-1BFB5798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A4F40-2E45-43AB-96D8-23B4EB8F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DF409-AFAD-40BF-8EA6-C2B9E3A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0D4CB-0E72-4C79-A802-E76EA71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977A8-01B5-49C3-B728-C09A1D73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5303A-ED89-47DF-97A8-A0869A2A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66592-E849-4874-9DA1-862598A5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7B9BE-F1F4-4B40-B7EF-A7F116EA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3B7-0E93-4BB7-8C4F-5D5D6459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8A1B0-83A7-44FA-90E2-394D9FC4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A767B-0776-4E80-BD8D-9892A30D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644DD-1B04-433B-9304-44E02489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98AAC-448D-4F1A-8C70-8F71A5AB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B8C03-BEAD-425B-BC2F-737CCC36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22EB1-7F2D-4002-8EE1-8AC19DCD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9632A-86D6-4D6D-90C7-C3CEF83D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E0ACF-D60F-48F3-A048-F2C1205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43B69-8175-4B21-82F5-D282D8DF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7A12B-4C17-449E-A36A-4B75EB84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375-9E08-4B1F-9BD1-919692C7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072AC-8693-478B-81E0-0955D211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42CD8-96A4-43F0-B3F7-7242EA24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CA702-5FBE-4D12-9031-F74B3B59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B6D29-751E-4083-A06B-BDB1DC0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B1E35-9F21-4D24-A3FA-AE320496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2ABDC-C01D-486E-B62B-3555D6A0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A258E-3BBD-48D7-B057-E605CD07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B3601-7F3C-43BE-85A3-DD289068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45577-8CB0-4932-AE58-67E1F7E0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97733-127F-41E4-AFE7-530ACE9E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3D14-A25F-4EEB-BA44-DAAEC638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68006-9312-4F8D-9C6D-3815B9B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37E3B-D5EE-4D7E-A18E-C204C910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09782-57A4-474E-A86F-929949B5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0ACE-3CFC-45E0-8585-E5B0F17C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3508-5CB0-4BCC-8F22-55AACB43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FFE8-43DE-42E3-9F79-60855503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8435-EC5E-4E1F-B787-67FBCF32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DE28-C918-47DC-B6D1-F5AE9F5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2EF8-3F42-4049-AC71-506F3F8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E33-3D71-4982-9567-0E2C464F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C562-1E83-418C-9CD0-5BA1FC42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4946-8D5A-4F95-A209-48B03774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4EF0-FED2-41B7-90AF-C7AA489D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52ED-641D-456C-B182-A005A390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A70C-2E74-4476-981F-E150EC80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DBEE-C6B5-439B-88E9-0049657D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726D-60AA-4701-B9FF-22D7CF5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286E-A1A2-4A06-B568-9F636B05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A88A-F689-4A93-9D42-0F114B50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3881-074C-4716-B314-A1A1970D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231-45E1-4F47-BDB6-68C71810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A3A1-9CEC-4235-B0C7-BFFE7502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ECE4-1D15-40FE-BB24-49FCC4D0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7B6B-2542-4525-838D-8EA3E696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610C-F52A-4DDE-96FA-8AA61AF6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92A4-37C8-4D5E-B2B2-18C6A84F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7F40-D08C-4618-863B-B76446FA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00D9-B762-45BF-9D82-11D1537E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15B4-A192-4404-B69F-915895B8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8F9A-42CC-429C-99D3-81EEA2E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685F-89CF-4298-A6A8-62390A35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61F-0A16-4416-B0FA-69E2D357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32C4-6BDE-4037-AF78-D4E3053D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917D-B38B-4FED-977B-BB739A6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072C-651C-4EF4-B63F-F58281D1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8E67-9C4B-4639-9782-E279190B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EDFB-3DBA-498A-B790-AE92BE5F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E798-6484-4AA7-83AC-75C1B43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D2863-79F2-47B9-8A90-1DF6F6A5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B136-6AC0-4269-8834-9ED46482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368F-CC34-458C-82DF-2C5F5765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C8E2-0276-4C07-80C0-C9BC71C6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934-5A00-4600-8090-DB654611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DEAA-8C21-4091-9019-A8825E34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14A1-0623-4752-B779-FA8D274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FB243-295B-43C6-99A6-C62A7FEF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37A5-DF65-44F6-824D-D050017D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A2F0-E242-408A-AE6A-625EAA58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43CBC-8376-453F-A20A-82D1A50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7CAB3-4137-4CD6-B978-CB66A74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ACAA3-67A7-4167-9078-2D3E836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47CF9-484C-48D4-8BBD-D5FBEF0B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5AAE-5BC5-4D0E-8CB0-28897F11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69C-002D-4085-82C8-35AFB281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D28B2-D42B-4C17-8BB9-68BBD676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8D0A7-CDE7-4A2D-BDE2-5B918E94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CD8C-DEF2-4F03-A444-81436082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EE7E6-53DB-4CFF-9F23-5FE680B7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D18BE-D284-490A-BB7D-8A97F9AD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61C4-2626-4618-A800-5257C0CB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7680B-A0E4-4BB4-9A19-12689BA1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478D-428A-4F13-BAC6-7418D3A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13324-82CB-4910-90DF-B20F49D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73CB4-8BA2-4B77-A403-DE85863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D13-408B-4EE2-8FC2-FC94AAC4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012E6-BB36-4A50-A3C4-A1A636A6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F213D-9851-495E-BB3A-98B06934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16914-7A63-492D-86E0-32BA1FB4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EBAA8-DDBD-49EF-BA4E-64429C19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17517-FF7E-42FF-9072-DC32A48E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389D3-7942-4D85-8371-600D09CF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33AF2-438E-4D10-A2E5-B2FECA4C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5A01C-6AB6-4B59-875D-7ACC25F3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61CE-E9E3-47E4-B193-8B3A78A0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1569-38A3-4017-8658-4498CD9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B34-6759-443D-B70B-2A75E26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4A6F7-D7F8-488D-9CD1-975EFFC5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549CA-14AB-4424-BC58-FA76196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B41F9-7CFA-4399-BF8A-EE8BA937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3ECCD-AFF1-48C3-ADCA-D25B83CC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B0CE7-F1D9-4024-A131-B97474F9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8250-3548-4610-B5EC-10786CE9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DE2B-433D-419C-A421-B6C6DE88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08016-1DA1-48DB-AFEB-92C6653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A73C5-C49B-4336-BCB3-A82F229A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22F51-35EC-4266-A5F0-44ECC749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7FD-FD50-44B9-A974-413C866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135C7-1E3E-4AEB-B553-CD2E9D67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FC00C-1E62-4349-B862-DB796144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9BE71-5442-401A-BE57-F02F349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D2910-7259-4433-8D27-57A8B366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2E80C-5C45-4B21-9493-8AA99EDD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80B41-106E-4822-8CEE-F08D3B7D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19548-7EC2-4CF1-A386-D106A35D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43CB7-4905-4CA4-AD2D-AB6EB74B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81141-24E6-4958-BA05-42F99CA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6ADE6-B28B-47D1-A225-7B8D289C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F5A17-84EC-49CF-8B1D-89A50BB5593C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ECE2D-1712-43BB-9C76-214E36B69846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6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D2672-BF61-49D9-8270-2BE1B1EB02B0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6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5F4C6-8B72-48E5-9FD3-B7B535B44CA1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F0018-4815-4654-8B89-B3D89AC6BED0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6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7E91C-B73E-460B-8BA4-13D73FB563E3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278F0-EFEB-40FF-8883-65B9AD0BF686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E8624-FFE1-441F-8BC0-464C664B1CFD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CD350-40BE-46E1-87AA-41E3E946A7CA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E1C22-3CA7-491C-81B4-F30DC28AD91F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7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8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1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4F9BA-86DF-4D06-860C-6CE4D287CDA4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395080" y="801720"/>
            <a:ext cx="561996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AMIDEAST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395080" y="3530160"/>
            <a:ext cx="5619960" cy="9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LEMENTARY 4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ESSION ON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888000" cy="369576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cook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392720" cy="37494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8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She’s playing tennis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038400" cy="395928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5"/>
          <p:cNvSpPr/>
          <p:nvPr/>
        </p:nvSpPr>
        <p:spPr>
          <a:xfrm>
            <a:off x="61128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eat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176640" cy="4103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playing baseball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92720" cy="24465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swimm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5800" cy="32814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paint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102120" cy="41036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324000" y="501336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She’s doing gymnastics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104000" cy="3275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playing soccer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4276800" cy="37702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fish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3059280" y="765000"/>
            <a:ext cx="2865240" cy="38163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read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CH ONE IS CORR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e is at the do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e is on the d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 is in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 is at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rogram was o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rogram was i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Kristen ITC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Kristen ITC"/>
              </a:rPr>
              <a:t>A: What do you do every day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Kristen ITC"/>
              </a:rPr>
              <a:t>B: ........................... and .......................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Kristen ITC"/>
              </a:rPr>
              <a:t>A: What are you doing now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Kristen ITC"/>
              </a:rPr>
              <a:t>B: I am ..........................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6948360" y="3573360"/>
            <a:ext cx="13892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Content Placeholder 4" descr=""/>
          <p:cNvPicPr/>
          <p:nvPr/>
        </p:nvPicPr>
        <p:blipFill>
          <a:blip r:embed="rId1"/>
          <a:stretch/>
        </p:blipFill>
        <p:spPr>
          <a:xfrm>
            <a:off x="468360" y="249120"/>
            <a:ext cx="82184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CH ONE IS CORR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ill Sans MT"/>
              </a:rPr>
              <a:t>She is at the do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e is on the d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 is in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ill Sans MT"/>
              </a:rPr>
              <a:t>He is at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ill Sans MT"/>
              </a:rPr>
              <a:t>The program was o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rogram was i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442880" y="804960"/>
          <a:ext cx="6572520" cy="500040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y ca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party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y way hom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meet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rk / hom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tra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e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airpor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c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fé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bus stop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bu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y offic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chool / colleg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w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enny’s ho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store / the kitch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1988640"/>
            <a:ext cx="65725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10 SENTENCES ABOUT YOU OR YOUR FRIENDS USING PREPOSITIONS OF PLA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835280" y="4581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5900" spc="-1" strike="noStrike">
                <a:solidFill>
                  <a:srgbClr val="ffffff"/>
                </a:solidFill>
                <a:latin typeface="Kristen ITC"/>
              </a:rPr>
              <a:t>WHAT ARE THEY DOING?</a:t>
            </a:r>
            <a:endParaRPr b="0" lang="en-US" sz="5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1908360" cy="2449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1724040" cy="2952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2293920" cy="2952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"/>
          <p:cNvPicPr/>
          <p:nvPr/>
        </p:nvPicPr>
        <p:blipFill>
          <a:blip r:embed="rId4"/>
          <a:stretch/>
        </p:blipFill>
        <p:spPr>
          <a:xfrm>
            <a:off x="611280" y="54936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3348000" y="1268280"/>
            <a:ext cx="2430360" cy="31687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324000" y="465300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She’s taking a pictur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3808440" cy="30132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5"/>
          <p:cNvSpPr/>
          <p:nvPr/>
        </p:nvSpPr>
        <p:spPr>
          <a:xfrm>
            <a:off x="539640" y="4653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using the computer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0:44:47Z</dcterms:created>
  <dc:creator>Cliente</dc:creator>
  <dc:description/>
  <dc:language>en-US</dc:language>
  <cp:lastModifiedBy>heba hanafy</cp:lastModifiedBy>
  <dcterms:modified xsi:type="dcterms:W3CDTF">2025-04-09T17:49:34Z</dcterms:modified>
  <cp:revision>12</cp:revision>
  <dc:subject/>
  <dc:title>Slide 1</dc:title>
</cp:coreProperties>
</file>